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03B4-3560-49BA-82F1-10740ED9F68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D229-FC88-4F87-BBAA-1321CFC82E2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letter, organising ideas, letter conventions and/or language. They could read and suggest improvements to each others’ letters afterwards.</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88E7-ED88-4AE5-9730-E32EFC70FCA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ension to lesson: learners read the original articles after the Easier English articles (or this can be done for homework)</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E747-E003-417F-B4E1-F9F823B61E7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start by looking at this map and naming the countries / comparing the detention centres</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8F8D-2955-491E-B8BF-37BBD385FBB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predict  this task, then they scan through the next 2 slides (or text, if printed out) to match.    Key: 1)e     2)d    3)b    4) f   5)c    6)a</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2A5E-C6EB-4BBA-968C-8B34CA22344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portunity for grammar review of wh questions. Learners could create posters in groups of questions with post-task error correction</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5ED6-DD4A-4ABD-94C2-977E55EC334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groups of 4: each learner reads one of the texts and makes notes.  Each learner could note down 5 interesting new phrases / words to teach the others. Then they discuss the answers (to their “wh” questions) together. The teacher can monitor and note down errors for post task correc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3839-A220-4143-9F76-034A57E580C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64AE4-AD8E-4BB0-945A-1DF7A8D82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1B657-01B2-4CEA-8281-BFC216EC0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A3225-017E-4AD8-B630-EF62DC854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BD55D-3AA2-45F9-8C22-DFD28C5E2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A924D-38BE-4776-9D34-8793FD246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244A4-16AC-424A-8085-28A567AF2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90C0B-A23E-447B-A243-4DE4D2FA2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C54BD-B39C-4875-94C0-D05281F66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E2E99-2E26-4B88-8F44-669EB6533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EFBFF-30C6-4181-A3EC-A8E0031F6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F54A6-06B5-491D-AFDB-7549B8E96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18F1A-FA5A-412C-AF2F-6BBA1B646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0AE5-ECCD-49ED-A98E-974EAC760EC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Why_are_we_locking_up_migrants%3F"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5000"/>
            <a:ext cx="77724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Detention centres</a:t>
            </a:r>
            <a:endParaRPr b="0" lang="en-US" sz="8000" spc="-1" strike="noStrike">
              <a:solidFill>
                <a:srgbClr val="000000"/>
              </a:solidFill>
              <a:latin typeface="Calibri"/>
            </a:endParaRPr>
          </a:p>
        </p:txBody>
      </p:sp>
      <p:sp>
        <p:nvSpPr>
          <p:cNvPr id="49" name="PlaceHolder 2"/>
          <p:cNvSpPr>
            <a:spLocks noGrp="1"/>
          </p:cNvSpPr>
          <p:nvPr>
            <p:ph type="subTitle"/>
          </p:nvPr>
        </p:nvSpPr>
        <p:spPr>
          <a:xfrm>
            <a:off x="684360" y="4436640"/>
            <a:ext cx="6408720" cy="15130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Upper Intermediate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0"/>
            <a:ext cx="3220920" cy="2276640"/>
          </a:xfrm>
          <a:prstGeom prst="rect">
            <a:avLst/>
          </a:prstGeom>
          <a:ln w="0">
            <a:noFill/>
          </a:ln>
        </p:spPr>
      </p:pic>
      <p:pic>
        <p:nvPicPr>
          <p:cNvPr id="51" name="Picture 3" descr=""/>
          <p:cNvPicPr/>
          <p:nvPr/>
        </p:nvPicPr>
        <p:blipFill>
          <a:blip r:embed="rId2"/>
          <a:stretch/>
        </p:blipFill>
        <p:spPr>
          <a:xfrm>
            <a:off x="7020000" y="3914640"/>
            <a:ext cx="1998720" cy="2827440"/>
          </a:xfrm>
          <a:prstGeom prst="rect">
            <a:avLst/>
          </a:prstGeom>
          <a:ln w="0">
            <a:noFill/>
          </a:ln>
        </p:spPr>
      </p:pic>
      <p:pic>
        <p:nvPicPr>
          <p:cNvPr id="52" name="Picture 4" descr=""/>
          <p:cNvPicPr/>
          <p:nvPr/>
        </p:nvPicPr>
        <p:blipFill>
          <a:blip r:embed="rId3"/>
          <a:stretch/>
        </p:blipFill>
        <p:spPr>
          <a:xfrm>
            <a:off x="3414600" y="115920"/>
            <a:ext cx="5729400" cy="14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are people doing about this?</a:t>
            </a:r>
            <a:br>
              <a:rPr sz="4400"/>
            </a:br>
            <a:r>
              <a:rPr b="0" lang="en-GB" sz="4400" spc="-1" strike="noStrike">
                <a:solidFill>
                  <a:srgbClr val="000000"/>
                </a:solidFill>
                <a:latin typeface="Calibri"/>
              </a:rPr>
              <a:t>Choose one of these links to find out more information:</a:t>
            </a:r>
            <a:endParaRPr b="0" lang="en-US" sz="4400" spc="-1" strike="noStrike">
              <a:solidFill>
                <a:srgbClr val="000000"/>
              </a:solidFill>
              <a:latin typeface="Calibri"/>
            </a:endParaRPr>
          </a:p>
        </p:txBody>
      </p:sp>
      <p:sp>
        <p:nvSpPr>
          <p:cNvPr id="75" name=""/>
          <p:cNvSpPr txBox="1"/>
          <p:nvPr/>
        </p:nvSpPr>
        <p:spPr>
          <a:xfrm>
            <a:off x="457200" y="2637000"/>
            <a:ext cx="8229600" cy="348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Take_action_on_the_detention_of_migrants:_links_and_more_inform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 write a letter to some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o could change thi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2" descr=""/>
          <p:cNvPicPr/>
          <p:nvPr/>
        </p:nvPicPr>
        <p:blipFill>
          <a:blip r:embed="rId1"/>
          <a:stretch/>
        </p:blipFill>
        <p:spPr>
          <a:xfrm>
            <a:off x="6588000" y="3860640"/>
            <a:ext cx="2000520" cy="2829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15560"/>
            <a:ext cx="577044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54" name=""/>
          <p:cNvSpPr txBox="1"/>
          <p:nvPr/>
        </p:nvSpPr>
        <p:spPr>
          <a:xfrm>
            <a:off x="250920" y="691920"/>
            <a:ext cx="8642160" cy="5832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reading</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 and note-taking</a:t>
            </a:r>
            <a:endParaRPr b="0" lang="en-US" sz="4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 and </a:t>
            </a:r>
            <a:r>
              <a:rPr b="1" lang="en-GB" sz="4000" spc="-1" strike="noStrike">
                <a:solidFill>
                  <a:srgbClr val="000000"/>
                </a:solidFill>
                <a:latin typeface="Calibri"/>
              </a:rPr>
              <a:t>speaking</a:t>
            </a:r>
            <a:r>
              <a:rPr b="1" lang="en-GB" sz="2800" spc="-1" strike="noStrike">
                <a:solidFill>
                  <a:srgbClr val="000000"/>
                </a:solidFill>
                <a:latin typeface="Calibri"/>
              </a:rPr>
              <a:t> </a:t>
            </a:r>
            <a:r>
              <a:rPr b="0" lang="en-GB" sz="2800" spc="-1" strike="noStrike">
                <a:solidFill>
                  <a:srgbClr val="000000"/>
                </a:solidFill>
                <a:latin typeface="Calibri"/>
              </a:rPr>
              <a:t>(</a:t>
            </a:r>
            <a:r>
              <a:rPr b="0" i="1" lang="en-GB" sz="2800" spc="-1" strike="noStrike">
                <a:solidFill>
                  <a:srgbClr val="000000"/>
                </a:solidFill>
                <a:latin typeface="Calibri"/>
              </a:rPr>
              <a:t>after each reading, click on the original article at the bottom, and you will be able to understand it</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Vocabulary</a:t>
            </a:r>
            <a:r>
              <a:rPr b="0" lang="en-GB" sz="4000" spc="-1" strike="noStrike">
                <a:solidFill>
                  <a:srgbClr val="000000"/>
                </a:solidFill>
                <a:latin typeface="Calibri"/>
              </a:rPr>
              <a:t>: </a:t>
            </a:r>
            <a:r>
              <a:rPr b="0" lang="en-GB" sz="2800" spc="-1" strike="noStrike">
                <a:solidFill>
                  <a:srgbClr val="000000"/>
                </a:solidFill>
                <a:latin typeface="Calibri"/>
              </a:rPr>
              <a:t>(</a:t>
            </a:r>
            <a:r>
              <a:rPr b="0" i="1" lang="en-GB" sz="2800" spc="-1" strike="noStrike">
                <a:solidFill>
                  <a:srgbClr val="000000"/>
                </a:solidFill>
                <a:latin typeface="Calibri"/>
              </a:rPr>
              <a:t>for each text, select 5 useful new phrases to note down and lear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 and writing </a:t>
            </a:r>
            <a:r>
              <a:rPr b="0" i="1" lang="en-GB" sz="2800" spc="-1" strike="noStrike">
                <a:solidFill>
                  <a:srgbClr val="000000"/>
                </a:solidFill>
                <a:latin typeface="Calibri"/>
              </a:rPr>
              <a:t>(a letter)</a:t>
            </a:r>
            <a:endParaRPr b="0" lang="en-US" sz="2800" spc="-1" strike="noStrike">
              <a:solidFill>
                <a:srgbClr val="000000"/>
              </a:solidFill>
              <a:latin typeface="Calibri"/>
            </a:endParaRPr>
          </a:p>
        </p:txBody>
      </p:sp>
      <p:pic>
        <p:nvPicPr>
          <p:cNvPr id="55" name="Picture 3" descr=""/>
          <p:cNvPicPr/>
          <p:nvPr/>
        </p:nvPicPr>
        <p:blipFill>
          <a:blip r:embed="rId1"/>
          <a:stretch/>
        </p:blipFill>
        <p:spPr>
          <a:xfrm>
            <a:off x="5286240" y="260280"/>
            <a:ext cx="3571920" cy="20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12600" y="58680"/>
            <a:ext cx="9131400" cy="645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43588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ook quickly at the text (next 2 slides) and match</a:t>
            </a:r>
            <a:r>
              <a:rPr b="0" lang="en-GB" sz="4000" spc="-1" strike="noStrike">
                <a:solidFill>
                  <a:srgbClr val="000000"/>
                </a:solidFill>
                <a:latin typeface="Calibri"/>
              </a:rPr>
              <a:t>:</a:t>
            </a:r>
            <a:endParaRPr b="0" lang="en-US" sz="4000" spc="-1" strike="noStrike">
              <a:solidFill>
                <a:srgbClr val="000000"/>
              </a:solidFill>
              <a:latin typeface="Calibri"/>
            </a:endParaRPr>
          </a:p>
        </p:txBody>
      </p:sp>
      <p:sp>
        <p:nvSpPr>
          <p:cNvPr id="60" name=""/>
          <p:cNvSpPr txBox="1"/>
          <p:nvPr/>
        </p:nvSpPr>
        <p:spPr>
          <a:xfrm>
            <a:off x="324000" y="1196640"/>
            <a:ext cx="4171680" cy="5327640"/>
          </a:xfrm>
          <a:prstGeom prst="rect">
            <a:avLst/>
          </a:prstGeom>
          <a:noFill/>
          <a:ln w="0">
            <a:noFill/>
          </a:ln>
        </p:spPr>
        <p:txBody>
          <a:bodyPr anchor="t">
            <a:normAutofit/>
          </a:bodyPr>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mputers and fruit</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Lovely view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hildren welcome</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 hunger strikes allow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inus) 5 sta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rrive in a boat</a:t>
            </a:r>
            <a:endParaRPr b="0" lang="en-US" sz="36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
          <p:cNvSpPr txBox="1"/>
          <p:nvPr/>
        </p:nvSpPr>
        <p:spPr>
          <a:xfrm>
            <a:off x="5076720" y="1196640"/>
            <a:ext cx="3610080" cy="5040360"/>
          </a:xfrm>
          <a:prstGeom prst="rect">
            <a:avLst/>
          </a:prstGeom>
          <a:noFill/>
          <a:ln w="0">
            <a:noFill/>
          </a:ln>
        </p:spPr>
        <p:txBody>
          <a:bodyPr anchor="t">
            <a:normAutofit fontScale="99000"/>
          </a:bodyPr>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urkey / Australi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donesi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donesia / Liby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ritain / Turkey</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weden</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Ukraine</a:t>
            </a:r>
            <a:endParaRPr b="0" lang="en-US" sz="3600" spc="-1" strike="noStrike">
              <a:solidFill>
                <a:srgbClr val="000000"/>
              </a:solidFill>
              <a:latin typeface="Calibri"/>
            </a:endParaRPr>
          </a:p>
          <a:p>
            <a:pPr marL="509040" indent="-50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3" name=""/>
          <p:cNvSpPr txBox="1"/>
          <p:nvPr/>
        </p:nvSpPr>
        <p:spPr>
          <a:xfrm>
            <a:off x="178920" y="259920"/>
            <a:ext cx="8713800" cy="64818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nited States</a:t>
            </a:r>
            <a:r>
              <a:rPr b="0" lang="en-GB" sz="2000" spc="-1" strike="noStrike">
                <a:solidFill>
                  <a:srgbClr val="000000"/>
                </a:solidFill>
                <a:latin typeface="Calibri"/>
              </a:rPr>
              <a:t>   A wide range of accommodation is available for </a:t>
            </a:r>
            <a:r>
              <a:rPr b="0" i="1" lang="en-GB" sz="2000" spc="-1" strike="noStrike">
                <a:solidFill>
                  <a:srgbClr val="000000"/>
                </a:solidFill>
                <a:latin typeface="Calibri"/>
              </a:rPr>
              <a:t>Tough Guide</a:t>
            </a:r>
            <a:r>
              <a:rPr b="0" lang="en-GB" sz="2000" spc="-1" strike="noStrike">
                <a:solidFill>
                  <a:srgbClr val="000000"/>
                </a:solidFill>
                <a:latin typeface="Calibri"/>
              </a:rPr>
              <a:t> readers. In early 2013 Congress agreed to build 33,400 spaces in detention centres – the most in the world. But the US also offers the best experience – solitary confinement. Some detention centres stop giving food to control people – they can ‘earn regular food’.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weden</a:t>
            </a:r>
            <a:r>
              <a:rPr b="0" lang="en-GB" sz="2000" spc="-1" strike="noStrike">
                <a:solidFill>
                  <a:srgbClr val="000000"/>
                </a:solidFill>
                <a:latin typeface="Calibri"/>
              </a:rPr>
              <a:t>   Sweden has 235 bed spaces. Someone described it as a ‘prison with extras’. This is </a:t>
            </a:r>
            <a:r>
              <a:rPr b="0" i="1" lang="en-GB" sz="2000" spc="-1" strike="noStrike">
                <a:solidFill>
                  <a:srgbClr val="000000"/>
                </a:solidFill>
                <a:latin typeface="Calibri"/>
              </a:rPr>
              <a:t>IKEA chic</a:t>
            </a:r>
            <a:r>
              <a:rPr b="0" lang="en-GB" sz="2000" spc="-1" strike="noStrike">
                <a:solidFill>
                  <a:srgbClr val="000000"/>
                </a:solidFill>
                <a:latin typeface="Calibri"/>
              </a:rPr>
              <a:t> – they have 24-hour internet and bowls of fruit. But maybe you will get Post Traumatic Stress Disorder. And the </a:t>
            </a:r>
            <a:r>
              <a:rPr b="0" i="1" lang="en-GB" sz="2000" spc="-1" strike="noStrike">
                <a:solidFill>
                  <a:srgbClr val="000000"/>
                </a:solidFill>
                <a:latin typeface="Calibri"/>
              </a:rPr>
              <a:t>Committee for the Prevention of Torture</a:t>
            </a:r>
            <a:r>
              <a:rPr b="0" lang="en-GB" sz="2000" spc="-1" strike="noStrike">
                <a:solidFill>
                  <a:srgbClr val="000000"/>
                </a:solidFill>
                <a:latin typeface="Calibri"/>
              </a:rPr>
              <a:t> said it was worried about not enough psychiatric care in a 2009 report. Better not to go there. </a:t>
            </a:r>
            <a:r>
              <a:rPr b="1" lang="en-GB" sz="2000" spc="-1" strike="noStrike">
                <a:solidFill>
                  <a:srgbClr val="000000"/>
                </a:solidFill>
                <a:latin typeface="Calibri"/>
              </a:rPr>
              <a:t>STARS</a:t>
            </a:r>
            <a:r>
              <a:rPr b="0" lang="en-GB" sz="2000" spc="-1" strike="noStrike">
                <a:solidFill>
                  <a:srgbClr val="000000"/>
                </a:solidFill>
                <a:latin typeface="Calibri"/>
              </a:rPr>
              <a:t>: minus on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kraine</a:t>
            </a:r>
            <a:r>
              <a:rPr b="0" lang="en-GB" sz="2000" spc="-1" strike="noStrike">
                <a:solidFill>
                  <a:srgbClr val="000000"/>
                </a:solidFill>
                <a:latin typeface="Calibri"/>
              </a:rPr>
              <a:t>   Ukraine offers racism, corruption and violence. They have 400 bed spaces and up to 12 months’ detention. The riot police controlled a hunger strike in Lutsk detention centre in 2012, by saying: ‘We will kill you if you don’t come to lunch.’ Not a good idea to travel here.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Britain</a:t>
            </a:r>
            <a:r>
              <a:rPr b="0" lang="en-GB" sz="2000" spc="-1" strike="noStrike">
                <a:solidFill>
                  <a:srgbClr val="000000"/>
                </a:solidFill>
                <a:latin typeface="Calibri"/>
              </a:rPr>
              <a:t>   It is ironic that Britain, the country of habeas corpus also keeps foreigners in detention indefinitely. There are 4,500 bed spaces and 13 different places. You will have beautiful views of Oxford, Portsmouth and the hills of Sussex when your police van takes you from one prison to another. You need a sense of humour. </a:t>
            </a:r>
            <a:r>
              <a:rPr b="1" lang="en-GB" sz="2000" spc="-1" strike="noStrike">
                <a:solidFill>
                  <a:srgbClr val="000000"/>
                </a:solidFill>
                <a:latin typeface="Calibri"/>
              </a:rPr>
              <a:t>STARS</a:t>
            </a:r>
            <a:r>
              <a:rPr b="0" lang="en-GB" sz="2000" spc="-1" strike="noStrike">
                <a:solidFill>
                  <a:srgbClr val="000000"/>
                </a:solidFill>
                <a:latin typeface="Calibri"/>
              </a:rPr>
              <a:t>: minus thre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reece</a:t>
            </a:r>
            <a:r>
              <a:rPr b="0" lang="en-GB" sz="2000" spc="-1" strike="noStrike">
                <a:solidFill>
                  <a:srgbClr val="000000"/>
                </a:solidFill>
                <a:latin typeface="Calibri"/>
              </a:rPr>
              <a:t>   We do not know the total number of bed-spaces. They even keep migrants at police stations. Recently, a Greek court recently set free some migrants who had escaped migrants because they said their stay in a Greek detention centre was the same as torture. It might help you meet local people if you know how to say </a:t>
            </a:r>
            <a:r>
              <a:rPr b="0" i="1" lang="en-GB" sz="2000" spc="-1" strike="noStrike">
                <a:solidFill>
                  <a:srgbClr val="000000"/>
                </a:solidFill>
                <a:latin typeface="Calibri"/>
              </a:rPr>
              <a:t>Yahsu!</a:t>
            </a:r>
            <a:r>
              <a:rPr b="0" lang="en-GB" sz="2000" spc="-1" strike="noStrike">
                <a:solidFill>
                  <a:srgbClr val="000000"/>
                </a:solidFill>
                <a:latin typeface="Calibri"/>
              </a:rPr>
              <a:t>(Hi)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5" name=""/>
          <p:cNvSpPr txBox="1"/>
          <p:nvPr/>
        </p:nvSpPr>
        <p:spPr>
          <a:xfrm>
            <a:off x="178920" y="333360"/>
            <a:ext cx="8713800" cy="640872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Turkey</a:t>
            </a:r>
            <a:r>
              <a:rPr b="0" lang="en-GB" sz="1900" spc="-1" strike="noStrike">
                <a:solidFill>
                  <a:srgbClr val="000000"/>
                </a:solidFill>
                <a:latin typeface="Calibri"/>
              </a:rPr>
              <a:t>   They are building more detention centres with money from the EU. If you are arrested at the River Evros on the Greek/Turkish border they will automatically put you in a detention centre – either in Greece or Turkey; maybe your trip will end completely if you boat has a hole in it, or if the Greek police push you back. If you are in Istanbul for a short time, you will stay at Kumpaki, with a lovely view of the beautiful old centre. Don’t talk about ‘Gezi Park’ to the guards. </a:t>
            </a:r>
            <a:r>
              <a:rPr b="1" lang="en-GB" sz="1900" spc="-1" strike="noStrike">
                <a:solidFill>
                  <a:srgbClr val="000000"/>
                </a:solidFill>
                <a:latin typeface="Calibri"/>
              </a:rPr>
              <a:t>STARS</a:t>
            </a:r>
            <a:r>
              <a:rPr b="0" lang="en-GB" sz="1900" spc="-1" strike="noStrike">
                <a:solidFill>
                  <a:srgbClr val="000000"/>
                </a:solidFill>
                <a:latin typeface="Calibri"/>
              </a:rPr>
              <a:t>: minus two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Mauritania</a:t>
            </a:r>
            <a:r>
              <a:rPr b="0" lang="en-GB" sz="1900" spc="-1" strike="noStrike">
                <a:solidFill>
                  <a:srgbClr val="000000"/>
                </a:solidFill>
                <a:latin typeface="Calibri"/>
              </a:rPr>
              <a:t>   As you travel along the West Coast of Africa, you will come to the Spanish detention centre Nouadhibou – people call it ‘Guantanamito’. It is for people who try to cross north into Spain or the Canaries. The worst thing is the ‘collective expulsions’ (lots of people sent together) back to Mali and Senegal. </a:t>
            </a:r>
            <a:r>
              <a:rPr b="1" lang="en-GB" sz="1900" spc="-1" strike="noStrike">
                <a:solidFill>
                  <a:srgbClr val="000000"/>
                </a:solidFill>
                <a:latin typeface="Calibri"/>
              </a:rPr>
              <a:t>STARS</a:t>
            </a:r>
            <a:r>
              <a:rPr b="0" lang="en-GB" sz="1900" spc="-1" strike="noStrike">
                <a:solidFill>
                  <a:srgbClr val="000000"/>
                </a:solidFill>
                <a:latin typeface="Calibri"/>
              </a:rPr>
              <a:t>: minus thre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Indonesia</a:t>
            </a:r>
            <a:r>
              <a:rPr b="0" lang="en-GB" sz="1900" spc="-1" strike="noStrike">
                <a:solidFill>
                  <a:srgbClr val="000000"/>
                </a:solidFill>
                <a:latin typeface="Calibri"/>
              </a:rPr>
              <a:t>   Are you travelling with children? No problem. Children are put in detention centres with adults. A (very) young </a:t>
            </a:r>
            <a:r>
              <a:rPr b="0" i="1" lang="en-GB" sz="1900" spc="-1" strike="noStrike">
                <a:solidFill>
                  <a:srgbClr val="000000"/>
                </a:solidFill>
                <a:latin typeface="Calibri"/>
              </a:rPr>
              <a:t>Tough Guide</a:t>
            </a:r>
            <a:r>
              <a:rPr b="0" lang="en-GB" sz="1900" spc="-1" strike="noStrike">
                <a:solidFill>
                  <a:srgbClr val="000000"/>
                </a:solidFill>
                <a:latin typeface="Calibri"/>
              </a:rPr>
              <a:t> researcher said, ‘we had one toilet for 37 people’. Do not try to escape; if they get you again, they will beat you badly. The law allows them to keep you in detention for 10 years. </a:t>
            </a:r>
            <a:r>
              <a:rPr b="1" lang="en-GB" sz="1900" spc="-1" strike="noStrike">
                <a:solidFill>
                  <a:srgbClr val="000000"/>
                </a:solidFill>
                <a:latin typeface="Calibri"/>
              </a:rPr>
              <a:t>STARS</a:t>
            </a:r>
            <a:r>
              <a:rPr b="0" lang="en-GB" sz="1900" spc="-1" strike="noStrike">
                <a:solidFill>
                  <a:srgbClr val="000000"/>
                </a:solidFill>
                <a:latin typeface="Calibri"/>
              </a:rPr>
              <a:t>: minus fiv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Libya</a:t>
            </a:r>
            <a:r>
              <a:rPr b="0" lang="en-GB" sz="1900" spc="-1" strike="noStrike">
                <a:solidFill>
                  <a:srgbClr val="000000"/>
                </a:solidFill>
                <a:latin typeface="Calibri"/>
              </a:rPr>
              <a:t>   There is informal detention by regional militia – with little food and no healthcare. This makes the Libyan experience more interesting, even for people who have been in detention centres in other countries. In late 2013, UNHCR reported that the </a:t>
            </a:r>
            <a:r>
              <a:rPr b="0" i="1" lang="en-GB" sz="1900" spc="-1" strike="noStrike">
                <a:solidFill>
                  <a:srgbClr val="000000"/>
                </a:solidFill>
                <a:latin typeface="Calibri"/>
              </a:rPr>
              <a:t>Department for Combating Illegal Migration</a:t>
            </a:r>
            <a:r>
              <a:rPr b="0" lang="en-GB" sz="1900" spc="-1" strike="noStrike">
                <a:solidFill>
                  <a:srgbClr val="000000"/>
                </a:solidFill>
                <a:latin typeface="Calibri"/>
              </a:rPr>
              <a:t> was releasing asylum seekers who were put in detention centres illegally. Quick, go there! </a:t>
            </a:r>
            <a:r>
              <a:rPr b="1" lang="en-GB" sz="1900" spc="-1" strike="noStrike">
                <a:solidFill>
                  <a:srgbClr val="000000"/>
                </a:solidFill>
                <a:latin typeface="Calibri"/>
              </a:rPr>
              <a:t>STARS</a:t>
            </a:r>
            <a:r>
              <a:rPr b="0" lang="en-GB" sz="1900" spc="-1" strike="noStrike">
                <a:solidFill>
                  <a:srgbClr val="000000"/>
                </a:solidFill>
                <a:latin typeface="Calibri"/>
              </a:rPr>
              <a:t>: minus fiv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Australia</a:t>
            </a:r>
            <a:r>
              <a:rPr b="0" lang="en-GB" sz="1900" spc="-1" strike="noStrike">
                <a:solidFill>
                  <a:srgbClr val="000000"/>
                </a:solidFill>
                <a:latin typeface="Calibri"/>
              </a:rPr>
              <a:t>  If you’re lucky, you will arrive in a beautiful local boat from Indonesia – and they will put you in detention. From October 2013, 8,521 people were put in detention in this way. They try to keep everyone away from Australia, so you probably won’t see Sydney. If they take you to Papua New Guinea’s Manus Island, you will have very little space, and a lot of heat and humiliation. </a:t>
            </a:r>
            <a:r>
              <a:rPr b="1" lang="en-GB" sz="1900" spc="-1" strike="noStrike">
                <a:solidFill>
                  <a:srgbClr val="000000"/>
                </a:solidFill>
                <a:latin typeface="Calibri"/>
              </a:rPr>
              <a:t>STARS</a:t>
            </a:r>
            <a:r>
              <a:rPr b="0" lang="en-GB" sz="1900" spc="-1" strike="noStrike">
                <a:solidFill>
                  <a:srgbClr val="000000"/>
                </a:solidFill>
                <a:latin typeface="Calibri"/>
              </a:rPr>
              <a:t>: minus four </a:t>
            </a:r>
            <a:endParaRPr b="0" lang="en-US" sz="1900" spc="-1" strike="noStrike">
              <a:solidFill>
                <a:srgbClr val="000000"/>
              </a:solidFill>
              <a:latin typeface="Calibri"/>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texts agai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If you had to choose a detention centre, which one would you choose to stay in? W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 Which one would you least like to stay in? W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 Compare /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a:t>
            </a:r>
            <a:endParaRPr b="0" lang="en-US" sz="3200" spc="-1" strike="noStrike">
              <a:solidFill>
                <a:srgbClr val="000000"/>
              </a:solidFill>
              <a:latin typeface="Calibri"/>
            </a:endParaRPr>
          </a:p>
        </p:txBody>
      </p:sp>
      <p:pic>
        <p:nvPicPr>
          <p:cNvPr id="68" name="Picture 2" descr="campsfield%20house.jpg"/>
          <p:cNvPicPr/>
          <p:nvPr/>
        </p:nvPicPr>
        <p:blipFill>
          <a:blip r:embed="rId1"/>
          <a:stretch/>
        </p:blipFill>
        <p:spPr>
          <a:xfrm>
            <a:off x="3851280" y="4076640"/>
            <a:ext cx="4170240" cy="26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out mor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groups, create some questions: what would you like to know about these detention centres?</a:t>
            </a:r>
            <a:endParaRPr b="0" lang="en-US" sz="32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hy ...?  Who ….?  When….?  Where …?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How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71" name="Picture 2" descr=""/>
          <p:cNvPicPr/>
          <p:nvPr/>
        </p:nvPicPr>
        <p:blipFill>
          <a:blip r:embed="rId1"/>
          <a:stretch/>
        </p:blipFill>
        <p:spPr>
          <a:xfrm>
            <a:off x="5796000" y="4653000"/>
            <a:ext cx="2846520" cy="196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n groups, read these 4 texts (one each) and make notes to answer your questions):</a:t>
            </a:r>
            <a:endParaRPr b="0" lang="en-US" sz="3600" spc="-1" strike="noStrike">
              <a:solidFill>
                <a:srgbClr val="000000"/>
              </a:solidFill>
              <a:latin typeface="Calibri"/>
            </a:endParaRPr>
          </a:p>
        </p:txBody>
      </p:sp>
      <p:sp>
        <p:nvSpPr>
          <p:cNvPr id="73" name=""/>
          <p:cNvSpPr txBox="1"/>
          <p:nvPr/>
        </p:nvSpPr>
        <p:spPr>
          <a:xfrm>
            <a:off x="179280" y="1557000"/>
            <a:ext cx="8856720" cy="5111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y are we locking up migrants?</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Why_are_we_locking_up_migrants%3F</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Another sad death in a detention centre</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Another_sad_death_in_a_detention_centre</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The companies who put immigrants in prison and make money</a:t>
            </a:r>
            <a:endParaRPr b="0" lang="en-US" sz="32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ttp://eewiki.newint.org/index.php/The_companies_who_put_foreigners_in_prison_and_make_money</a:t>
            </a:r>
            <a:endParaRPr b="0" lang="en-US" sz="1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Argument about humane detention</a:t>
            </a:r>
            <a:endParaRPr b="0" lang="en-US" sz="32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http://eewiki.newint.org/index.php/Argument:_If_we_make_the_detention_of_migrants_more_humane,_does_this_increase_detention%3F</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9T20:36:52Z</dcterms:created>
  <dc:creator>Linda Ruas</dc:creator>
  <dc:description/>
  <dc:language>en-US</dc:language>
  <cp:lastModifiedBy>Linda Ruas</cp:lastModifiedBy>
  <dcterms:modified xsi:type="dcterms:W3CDTF">2014-02-10T17:59:17Z</dcterms:modified>
  <cp:revision>13</cp:revision>
  <dc:subject/>
  <dc:title>Detention centres</dc:title>
</cp:coreProperties>
</file>